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25B-3E34-4773-B487-DB168E0E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597-CA42-496B-9BF0-54F43B72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C5B-EF22-47C7-BF45-4DA5C596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23C-58C1-46E1-A238-9B24A443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B94-D1D8-4D9E-9DEC-23CD664E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1EE-A02C-4E35-BB4C-31F05795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2C9-C7C9-4229-9F3B-2C820491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1DE-2D6E-4E40-B66E-8DCE6491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F33-F9CC-4C1E-B07D-2518B18C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CF0-73EB-4301-8EEA-79AC0098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BC0-E09C-4390-B5EC-2856023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313-570C-475F-8FF1-E5D825C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AD2A-6F9A-4BA6-B870-3653716A31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cc3399"/>
                </a:solidFill>
                <a:latin typeface="Times New Roman"/>
                <a:ea typeface="隶书"/>
              </a:rPr>
              <a:t>做习惯的主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初二（</a:t>
            </a: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）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习惯治疗卡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写此卡，尽量详细，针对具体的问题来解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————月————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良学习习惯：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改进：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邀请———做我的评判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醒我要和坏习惯绝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星期后，我的表现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的学习习惯治疗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8380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良学习习惯：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不按时完成作业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上自习课的时候说：“晚上回家再做吧。”等回到家，吃完晚饭的时候，做了一会儿就想看电视，又说：“明天早上做吧！”结果总是推脱，最后到了交作业的时候，才发现自己还没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怎样改进？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把每天的作业记在记事本上，回家之后，先做作业，再看电视，让父母监督，再没有做完作业之前，不许睡觉，老师上完一课我就立即做完这一课作业，让自己的同桌监督自己完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邀请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晓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我的评判人，提醒我要和怀习惯绝交，一星期后，我的表现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609480"/>
            <a:ext cx="15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066680"/>
            <a:ext cx="82296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100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表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小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2005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年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9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月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7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当自己在改进不良学习习惯的时候，要取得家人和好朋友的帮助，让他们来做你的坚强的精神后盾。在自己无法坚持的时候，跟家人和好朋友及时地沟通，大家一起想办法。当自己取得进步的时候，也反馈给他们，让自己亲近的人能看见你的进步，也可以提高你的自信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08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真诚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21400" y="15199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诚实守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1644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认真负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61160" y="155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自信自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920" y="2485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遵守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9864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讲究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4336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友善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1500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合理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54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主动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680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独立思考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5028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勇于实践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310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总结反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21640" y="225360"/>
            <a:ext cx="48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人格化好习惯的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指标 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7280" y="1295280"/>
            <a:ext cx="533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北京有一家外资企业招工，对学历、外语、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身高、相貌的要求都很高，但薪酬挺高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所以有很多高素质人才都来应聘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这一些年轻人，过五关斩六将 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到了最后一关：总经理面试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　 这些年轻人想，这很简单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只不过是走走过场罢了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准十拿九稳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8360" y="1406880"/>
            <a:ext cx="685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    一见面，总经理说：“很抱歉，年轻人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我有点急事，要出去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分钟，你们能不能等我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说：“没问题，您去吧，我们等您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老板走了，年轻人一个个踌躇满志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得意非凡，闲不着，围着老板的大写字台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只见上面文件一摞，信一摞，资料一摞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你看这一摞，我看这一摞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看完了还交换：哎哟，这个好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55343" b="0"/>
          <a:stretch/>
        </p:blipFill>
        <p:spPr>
          <a:xfrm>
            <a:off x="0" y="0"/>
            <a:ext cx="3457440" cy="685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17" b="0"/>
          <a:stretch/>
        </p:blipFill>
        <p:spPr>
          <a:xfrm>
            <a:off x="1403280" y="0"/>
            <a:ext cx="774072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7400" y="1494000"/>
            <a:ext cx="342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分钟后，总经理回来了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说：“面试已经结束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“没有啊？我们还在等您啊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老板说：“我不在的这一段时间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你们的表现就是面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很遗憾，你们没有一个人被录取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319800">
            <a:off x="539640" y="1268280"/>
            <a:ext cx="7345440" cy="46087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96200">
            <a:off x="8010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.number one."/>
                <a:ea typeface="华文彩云"/>
              </a:rPr>
              <a:t>温馨提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669000">
            <a:off x="2574360" y="2133360"/>
            <a:ext cx="292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习惯是一个人的资本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好习惯，你一辈子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都有用不完的利息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坏习惯，你一辈子有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偿还不了的债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管住自己为什么管不住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长记性，总是重复在同一个错误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原谅自己，在没有办法改变的时候就放弃了，然后给自己找各种各样的理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志薄弱，下决心要控制自己，可是总是在最后的关头又坚持不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143000"/>
            <a:ext cx="8153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得住自己，你是习惯的主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不住自己，你是习惯的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做主人，还是做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全在于自己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改掉坏习惯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交一些能够管住自己的朋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座右铭，挂字画等来提醒约束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日记来管住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学习习惯测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学过的功课，是不是加以复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预习要学的功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课的时候，注意力是否集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回答老师的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自习课的时候是否自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不懂的功课，是否向别人请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按时完成作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参加讨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3:22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55:51Z</dcterms:modified>
  <cp:revision>9</cp:revision>
  <dc:subject>主题班会课件(分28大类): http://shop62905894.taobao.com</dc:subject>
  <dc:title>主题班会课件(分28大类): http://shop62905894.taobao.com</dc:title>
</cp:coreProperties>
</file>